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A44-325B-43F6-8140-4CC5ABB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493-FEF0-4353-8B65-76F679F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6C7-DD9A-4C28-9E44-3502CF8B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64A-3DED-48E0-933A-EB7B4256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648E3-67D6-4DB3-9A24-4079ACF3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8804-1B95-4CEA-BC56-957B5018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EDFE-69C8-423A-B0E1-9EA8D521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AAB1E-9979-45B8-9FBD-9C44F53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964F6-D46C-48C7-8CE3-F535FB54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7EF8F-B716-49AE-8158-B2BE008A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0DEDD-716A-48D5-8187-0EBBFAB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523-DEA0-4B61-B554-89C24173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6048-D43B-41C7-B5E2-561D31D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F5827-D19C-4DEF-AEC0-176DD04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18C11-8A47-408F-98DF-DC526256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B81C1-5A8C-4582-9FF4-CA4D0F9F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C4516-C3F5-4EB3-BD6C-8E46DE93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EC57-66F8-4A2D-B8AB-831B75CD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9ADD-709C-454B-9E3E-E87FF8B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7492-3C77-465E-8D52-7C83482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7E97-E70F-408F-B3AD-3063C785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3359-B0E6-493D-AD27-78400365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99A-B66F-46BA-9621-97A288B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7EEE-AB62-457A-AC2D-A3FD7DC6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FC0D-4E9B-4B23-9601-E2D31C6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7545-45D1-4576-94E7-80FF77B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E4BC-70F4-4143-A7C5-25FFE97D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D5CC-CFD2-4C10-94C3-CA3B902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B1A7-AAA2-49F2-9699-8010E8EC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7D4D-077C-4F43-945A-E13785D3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F68C-AADF-4246-9E5A-A5C97CCB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DC00-8E30-4739-8514-FBC37496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3565-4D48-4A44-94E6-3D62C906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C74-9254-4353-8801-8717CC57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1632-050E-4818-8ECD-E6EF93C2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B857-3871-4E0C-A6A0-530EA2D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FBF7-C3C8-46A3-BCEC-66B7C6BA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1E9B-6703-4082-A851-AD8E9D5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98E5A-17A1-4707-B687-387D893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EF96-DAE7-43C6-821A-AA34AB8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743C6-63B7-4EAE-8CBE-F423D758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B128-8736-4166-A263-78827B27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1F51-571F-4A11-98A1-779E2F55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2FF5-256B-46C3-824B-2BE60D9D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9FF-88CE-4B07-9489-A8E30F9E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C534-1D8E-44CE-8BAE-B52B7786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CCA3-1EBD-42FE-BCA2-02E25F0E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9CE74-1455-474A-9283-1F382C21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4EA05-C346-4D8C-BE76-27857944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11AA-496B-478F-BEBD-9CCADB6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EC98-C06E-4854-A8F1-88EA12B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97BB-3AB2-4752-95FE-846B8B05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C708E-B748-4552-A61C-C701BE2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D979-759D-4CC2-B49C-329AE185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E745-BACC-4E7C-AAAD-F2C365B8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1DC-FE32-4DF0-A0DA-DBAB9AF9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2EE0-D3FC-46D1-976E-43B3B5A6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7E4C-0FE5-4468-9911-6CBBE0E7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855C7-51DF-453C-8627-647633C7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7CD2-9E57-4AC3-B390-A95C5D9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8F42-0223-4219-93AC-CEB620A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68671-F6FC-4FAB-BC9B-F12380F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F5838-1A25-476E-9AD1-E7223A7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581DD-1710-47D5-9A13-794D991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EBFA-A701-4D08-8F7F-BAE0250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3637-0A02-429C-9329-F45F04A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EDE-22C3-4F7B-86CF-D2ED829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2425-5F90-48A2-A970-478385F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14E3-06D6-4685-82DA-0F6E1963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01EA1-11FF-4E16-A336-D0D58AA3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8F3-D58E-41FE-8464-4A1A5DB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BE8-4E3A-4B64-AD0D-BF2A805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35A2-700A-4857-85B7-940AF3FC0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BF36-7E8C-4427-A426-36E913603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DA0-9117-4199-81D4-7085F808F01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B978-D83E-448E-BB13-979945F251A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04D0-BAC3-4919-989C-766C560FCA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76DF-6F61-4EF8-8512-CF596D4B7F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Kristen Mahon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mansion. Es muy  lujosa y nuevo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"/>
          <p:cNvSpPr/>
          <p:nvPr/>
        </p:nvSpPr>
        <p:spPr>
          <a:xfrm>
            <a:off x="3429000" y="41148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19320" y="7621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000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uy bonita y moder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396252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Es muy grande y nue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441180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09680" y="41911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S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 una sala. La sala es bonita y increi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4419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762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no. Es muy moderno y be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2803680" y="4464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4800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uy estupendo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34290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4:26Z</dcterms:created>
  <dc:creator>mahoneykri</dc:creator>
  <dc:description/>
  <dc:language>en-US</dc:language>
  <cp:lastModifiedBy>mahoneykri</cp:lastModifiedBy>
  <dcterms:modified xsi:type="dcterms:W3CDTF">2011-03-31T17:26:35Z</dcterms:modified>
  <cp:revision>3</cp:revision>
  <dc:subject/>
  <dc:title>La Mansion</dc:title>
</cp:coreProperties>
</file>